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C1B-E958-43DA-A362-E613441C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1DB-9814-4168-8DF1-55DBF488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5D4-F555-45C7-BA59-15C9B1E0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9E4-62A1-439D-BD81-4376569A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07D6-010C-414A-BDB7-607D9B6C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4B41-A912-4FE1-AD05-1B6AEB27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EA32-516D-42AE-ACE1-E2FA4837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4266-817E-490C-BCD1-B0E32213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FF86-9EE0-4C3C-91AF-0E5CC69E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8B29-048C-428B-A128-3DACF74A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5B3C-40A1-4E82-83D6-551797E9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F4B-6ABA-48F5-BD90-7825CB72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9CA4-02E6-40B9-B026-00275075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D146-0D2F-41D3-8A97-DE14A6BA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B02D-0B62-4FB5-A353-088544C3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F107-48C2-461B-95F2-E2B62284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0E73-D4B1-4CA7-AF0C-F8C23BAA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79F9F-A8FF-4FC5-B89F-3E7219CC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7F16A-8D6D-4AF4-87FE-6F61F089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9E9E7-0A77-4203-9670-AD0C0F99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F43A0-CA32-4346-A6AD-7012444C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1D72D-EC8A-4A65-B9D7-E76222D9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E3A-7D92-43B3-A47D-7927617E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1E2A2-266F-4668-809E-7AD76AA8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FE6E2-D798-4A6A-883E-E5D84D46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80111-E9D1-47FF-88CD-D394C750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34C2B-B328-46D2-B7AC-3B571D32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276FD-DDBF-4367-9CF5-F440C420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1F532-2419-4611-BA6C-D8DF956A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279B1-8083-4D01-855B-2AF3FB3F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845D-FBED-4CF2-A735-D4FB923F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BD4F7-4026-4843-BAC3-40B39859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CCE0-E36F-443D-A231-E6CF4879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652-F67A-4535-B866-28567898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FF49-EE4A-4EF2-AA0B-6A88EDB1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CD21C-5F2B-4B20-B4ED-10532593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ABA08-73DB-414C-9635-B93E658E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78142-B270-465D-B0BF-A22423A7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DC268-D1D3-4D06-853A-B87DE4E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208E-4E0E-4575-8A16-E8BA04D6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1C67B-5797-46E4-94BD-8950A5DB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CC425-EBB1-4422-8A4F-BC72D2DC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670BE-A734-4F96-9273-F2DAC8E1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EE121-B9E6-4AF6-A7DD-1B9BB40E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EBE-D6D5-4F23-A47A-C4C4A03B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6C7FE-E283-4437-81D1-4D93656B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D506D-79C5-41C9-AFF9-2C10F529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6588B2-9AC0-427B-BFFE-DE432045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6F4866-CCE2-4144-946B-4181B517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12E76-0CC0-4845-AB91-10A81E29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FF585-40F2-4F61-915C-F2443EC1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03DEB-5722-4873-BFD7-5B72D1CE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64081-2963-4394-87A9-F4821C0F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0A0EE-C7F5-474E-86AD-2C2FDF56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50D3B-9AB1-4480-893E-87021902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D2D-D931-46A3-9906-C0809372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A3DFB-1E94-4FF7-BA11-1022A942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12676-705F-4904-B27E-BC7501E6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60F94-466B-466C-A686-A7B69BBA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AB3B3-9054-47C9-9A31-7555BDC5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3DBFF-F13C-42C9-9C17-28B6217B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057B0-5B4F-455E-8623-50818B00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2C183-46E8-4827-BC33-4429843D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F1D371-77D6-4212-95A2-BD4B4314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9E5F5-4925-4F25-A1A5-F0F84D35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9166D0-612C-433A-B45A-5DD62F5B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085-EA40-4312-9734-9619579F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CB27D-A8C4-4EC7-B72A-D5E265D5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DCFC1-5286-406B-81FB-FD25BED4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A7C1B-7FBC-4853-B83B-BB89F5E2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A4A159-A1AF-46CE-B2EB-1C8D29D0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FF00EE-23DC-4BC2-A001-B372CAC7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A262D-B2D9-43A6-BD3C-3F756E89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E95A3-F49D-424B-AD1F-8DCD8482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93D3E-29EC-46BD-8FD2-6732E00D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E3E25-20E6-42D4-A149-992BC90D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CD1FC-0AFE-4627-902A-C202B1C7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108-B858-4560-BCDD-F5BC57CE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39193-7BAD-42D4-ACA9-D20DCE54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CA3F6-70A5-428F-B3DD-BB59D7A4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C628E-B65B-4F58-AD66-923A84AA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04B16-520D-4EB8-8FD0-18824733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8CED7-9B43-4536-A853-C6432CC1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9A9-12A4-4F7D-9014-28A0A5C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80B2-9C4A-472D-8ABB-BA5A1FDEF1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775A-2681-44E9-AAF2-E5C3E2B3D24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9AED-AF9D-4B18-89D1-2562D7D1ADE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e9e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de9e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de9e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e9ec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81E1-1F04-41D8-9022-E0E5DD9616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69F3-0A40-420A-9F52-3A93271BE4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6234-6887-40AB-924D-88375594BB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D6A8-E048-4F5F-81F6-4565B04F322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Century Schoolbook"/>
                <a:ea typeface="宋体"/>
              </a:rPr>
              <a:t>EMPLOYMENT STATUS AT OLDER AGES IN ROMANIA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419720" y="434340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Asta Zvinie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Sr. Social Protection Speciali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The World Ban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May 9</a:t>
            </a:r>
            <a:r>
              <a:rPr b="1" lang="en-US" sz="2000" spc="-1" strike="noStrike" baseline="30000">
                <a:solidFill>
                  <a:srgbClr val="464653"/>
                </a:solidFill>
                <a:latin typeface="Century Schoolbook"/>
                <a:ea typeface="宋体"/>
              </a:rPr>
              <a:t>th</a:t>
            </a: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, 201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560" y="2133360"/>
            <a:ext cx="73911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Century Schoolbook"/>
                <a:ea typeface="宋体"/>
              </a:rPr>
              <a:t>THANK YOU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53"/>
                </a:solidFill>
                <a:latin typeface="Century Schoolbook"/>
              </a:rPr>
              <a:t>URBAN / RURAL DIVIDE IN EMPLOYMENT STATUS</a:t>
            </a:r>
            <a:br>
              <a:rPr sz="2700"/>
            </a:br>
            <a:endParaRPr b="0" lang="en-US" sz="27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4" name="Content Placeholder 3" descr=""/>
          <p:cNvPicPr/>
          <p:nvPr/>
        </p:nvPicPr>
        <p:blipFill>
          <a:blip r:embed="rId1"/>
          <a:stretch/>
        </p:blipFill>
        <p:spPr>
          <a:xfrm>
            <a:off x="304920" y="1298520"/>
            <a:ext cx="80769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POTENTIAL OF VARIOUS GROUPS TO INCREASE EMPLOY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IMPACT OF EDUCATION ON EARLY RETIRE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8" name="Content Placeholder 3" descr=""/>
          <p:cNvPicPr/>
          <p:nvPr/>
        </p:nvPicPr>
        <p:blipFill>
          <a:blip r:embed="rId1"/>
          <a:stretch/>
        </p:blipFill>
        <p:spPr>
          <a:xfrm>
            <a:off x="378000" y="1523880"/>
            <a:ext cx="8308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OSER LOOK AT OLDER POPULATION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LEADING CAUSES OF DISABILITY, 2013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845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53"/>
                </a:solidFill>
                <a:latin typeface="Century Schoolbook"/>
              </a:rPr>
              <a:t>OPINIONS: PEOPLE SHOULD BE ABLE TO CONTINUE WORKING AFTER PENSION ELIGIBILITY </a:t>
            </a:r>
            <a:endParaRPr b="0" lang="en-US" sz="27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OPINIONS: WOULD LIKE TO WORK LONGER, INTERESTED IN PARTIAL RETIRE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6" name="Content Placeholder 10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3809880" cy="4870440"/>
          </a:xfrm>
          <a:prstGeom prst="rect">
            <a:avLst/>
          </a:prstGeom>
          <a:ln w="0">
            <a:noFill/>
          </a:ln>
        </p:spPr>
      </p:pic>
      <p:pic>
        <p:nvPicPr>
          <p:cNvPr id="367" name="Chart 11" descr=""/>
          <p:cNvPicPr/>
          <p:nvPr/>
        </p:nvPicPr>
        <p:blipFill>
          <a:blip r:embed="rId2"/>
          <a:stretch/>
        </p:blipFill>
        <p:spPr>
          <a:xfrm>
            <a:off x="4419720" y="1603440"/>
            <a:ext cx="37306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TO SUMMARIZE: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560" y="1143000"/>
            <a:ext cx="8381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st of informal economy is rural non-cash economy, very hard to formaliz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 urban setting HALF of people without jobs are aged 55-6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arly retirement is more prevalent among less educated, HALF of which happens through disability pro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oportion of population without a job or pension DECREASES with age, so pension eligibility criteria could be tighten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pproval of work at older ages is at 30%-40% and can reach 70% among older more educated people, especially wom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mand for partial retirement is especially strong among older women, but the number of partial contracts is low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easiest way to achieve tangible results is by finding ways to postpone full retire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4:03:59Z</dcterms:created>
  <dc:creator>wb23018</dc:creator>
  <dc:description/>
  <dc:language>en-US</dc:language>
  <cp:lastModifiedBy>Asta Zviniene</cp:lastModifiedBy>
  <dcterms:modified xsi:type="dcterms:W3CDTF">2014-05-08T23:35:12Z</dcterms:modified>
  <cp:revision>327</cp:revision>
  <dc:subject/>
  <dc:title>Rethinking social insurance</dc:title>
</cp:coreProperties>
</file>